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4EE4-B8C8-4BB7-A5D0-FE0321EF9FC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74D7-EC42-4651-AE12-38C43E5B65A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C38B-0286-4CFE-9B43-6E55EEE5283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6F61-D5B0-476D-AE45-DBA886345E9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B81A-30C9-493E-B94F-602DDD818D8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3AF5-CFBD-48FF-901C-C876E41CDF7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DA7F-375C-4275-A942-FAFFD3E0252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BCCD-8FA3-47F6-91D7-BFD2DE54206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567B-0806-4B11-8E9E-B98738B1506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EF36-D97E-4429-A74B-264C91E029F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9679-6BA7-40A9-B4D4-87604D4F7AF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60FB-97E7-44A2-9806-46574204882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C85-2186-4AC1-829F-A755C2C9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FDE-7B98-466E-AAD0-6C594C43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BAF-1EEB-4BC4-834B-75489CE9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CAC-0947-4B2B-8427-91A9F087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97F-54D8-4DD2-A56C-F96647FF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A98-85CE-4706-A1A9-3F2EE11E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BA0-C541-43DA-B239-F91993AE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F6D-069B-464C-8CDB-8F3F33BC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D3A8-26FA-45FC-8A83-1357ADDE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67F2-B5BF-4D2B-8EFC-9ABE34C5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688-BA30-4271-BBE9-BB5F1F4C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447-0081-46F2-A698-B775ACE1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AB88-EDAE-488B-BFBD-CB1530B54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geoghagan_geometry_assignments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914040"/>
            <a:ext cx="7162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.3 Segments &amp; their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.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Congruent (     ) Se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4760" y="1599840"/>
            <a:ext cx="7010280" cy="342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gments that have the same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B &amp; XY have the same l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n AB=X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 flipV="1">
            <a:off x="4643280" y="4495320"/>
            <a:ext cx="6145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5791320" y="4495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5257800" y="4495680"/>
                <a:ext cx="609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9" name="Text Box 8"/>
          <p:cNvSpPr/>
          <p:nvPr/>
        </p:nvSpPr>
        <p:spPr>
          <a:xfrm>
            <a:off x="3809880" y="5867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ymbol for congru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 flipH="1" flipV="1">
            <a:off x="5638680" y="5029200"/>
            <a:ext cx="533520" cy="914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0"/>
          <p:cNvSpPr/>
          <p:nvPr/>
        </p:nvSpPr>
        <p:spPr>
          <a:xfrm>
            <a:off x="5257800" y="4419720"/>
            <a:ext cx="457200" cy="533160"/>
          </a:xfrm>
          <a:prstGeom prst="ellipse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2666880" y="2743200"/>
            <a:ext cx="530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3733920" y="2743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7"/>
              <p:cNvSpPr txBox="1"/>
              <p:nvPr/>
            </p:nvSpPr>
            <p:spPr>
              <a:xfrm>
                <a:off x="4800600" y="457200"/>
                <a:ext cx="7621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66520" y="30456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ssig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7240" y="2282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Postu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23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ules that are accepted as true with having to be pro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ometimes they are called axio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Postulate 1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: Ruler p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360" y="99072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oints on a line can be matched with those on the real #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real # that corresponds to a point is th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coordinat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f the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f you find the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ifferen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between the coordinates of 2 points, then take the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bsolute valu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 you will have th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distan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between th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Ruler post.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33920" y="3048120"/>
            <a:ext cx="541008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length of AB can be found by   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*The symbol for the length of AB is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2666880" y="2286000"/>
            <a:ext cx="556272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3811680" y="2211480"/>
            <a:ext cx="155520" cy="155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6553080" y="2209680"/>
            <a:ext cx="15264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65760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40080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657600" y="24382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647712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6854760" y="3125880"/>
            <a:ext cx="530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6095880" y="35812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7238880" y="35812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xampl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:  Find AB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x23gsqzf[1]"/>
          <p:cNvPicPr/>
          <p:nvPr/>
        </p:nvPicPr>
        <p:blipFill>
          <a:blip r:embed="rId1"/>
          <a:stretch/>
        </p:blipFill>
        <p:spPr>
          <a:xfrm rot="19977000">
            <a:off x="4190760" y="1904760"/>
            <a:ext cx="3733560" cy="3055680"/>
          </a:xfrm>
          <a:prstGeom prst="rect">
            <a:avLst/>
          </a:prstGeom>
          <a:ln w="0">
            <a:noFill/>
          </a:ln>
        </p:spPr>
      </p:pic>
      <p:sp>
        <p:nvSpPr>
          <p:cNvPr id="69" name="Line 6"/>
          <p:cNvSpPr/>
          <p:nvPr/>
        </p:nvSpPr>
        <p:spPr>
          <a:xfrm>
            <a:off x="3581280" y="2819520"/>
            <a:ext cx="525780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5029200" y="2743200"/>
            <a:ext cx="152280" cy="15228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>
            <a:off x="7162920" y="2743200"/>
            <a:ext cx="152280" cy="15228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95288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93432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80880" y="44197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int A is at 1.5 and B is at 5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, AB =   5 - 1.5   =  3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1905120" y="49528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2971800" y="49528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4"/>
          <p:cNvSpPr/>
          <p:nvPr/>
        </p:nvSpPr>
        <p:spPr>
          <a:xfrm>
            <a:off x="3276720" y="4876920"/>
            <a:ext cx="838080" cy="6094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s Alex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etween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Ty and Jos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42667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order for a point to be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betwee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2 others, all 3 points MUST BE collinea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"/>
          <p:cNvSpPr/>
          <p:nvPr/>
        </p:nvSpPr>
        <p:spPr>
          <a:xfrm>
            <a:off x="2514600" y="1447920"/>
            <a:ext cx="380880" cy="38088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"/>
          <p:cNvSpPr/>
          <p:nvPr/>
        </p:nvSpPr>
        <p:spPr>
          <a:xfrm>
            <a:off x="3581280" y="1447920"/>
            <a:ext cx="381240" cy="38088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4724280" y="1447920"/>
            <a:ext cx="381240" cy="38088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2096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20040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44956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3657600" y="2362320"/>
            <a:ext cx="380880" cy="38088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553080" y="1295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Yes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6553080" y="22096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, but why no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1676520" y="1676520"/>
            <a:ext cx="44956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1752480" y="3048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about now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ost. 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: Segment Addition P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14240" y="1219320"/>
            <a:ext cx="6629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B is between A &amp; C,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 + BC = A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AB + BC = AC, then B is between A &amp;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 flipV="1">
            <a:off x="2133720" y="4038120"/>
            <a:ext cx="6095880" cy="8384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2970360" y="4643280"/>
            <a:ext cx="155520" cy="15588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"/>
          <p:cNvSpPr/>
          <p:nvPr/>
        </p:nvSpPr>
        <p:spPr>
          <a:xfrm>
            <a:off x="4191120" y="4495680"/>
            <a:ext cx="155520" cy="15552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6400800" y="4191120"/>
            <a:ext cx="155520" cy="15552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7432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962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2485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x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: if DE=2, EF=5, and DE=FG, find FG, DF, DG, &amp; E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1671480" y="2668680"/>
            <a:ext cx="6170760" cy="15271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2286000" y="2743200"/>
            <a:ext cx="155520" cy="15552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3124080" y="2971800"/>
            <a:ext cx="155520" cy="15552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4876920" y="3429000"/>
            <a:ext cx="155520" cy="15552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5867280" y="3657600"/>
            <a:ext cx="155520" cy="15552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20968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0481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80060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5867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267080" y="4419720"/>
            <a:ext cx="1371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G=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F=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G=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G=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Remind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ythagorean Theorem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b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=c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&amp; b are the lengths of the legs of a right triangle and c is the length of the hypoten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Distance formul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x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y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 &amp; (x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y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 are the 2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2743200" y="4572000"/>
                <a:ext cx="44197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2T23:40:01Z</dcterms:created>
  <dc:creator>Gateway_User</dc:creator>
  <dc:description/>
  <dc:language>en-US</dc:language>
  <cp:lastModifiedBy>Cynthia Morgan</cp:lastModifiedBy>
  <dcterms:modified xsi:type="dcterms:W3CDTF">2010-08-26T22:16:29Z</dcterms:modified>
  <cp:revision>16</cp:revision>
  <dc:subject/>
  <dc:title>1.3 Segments &amp; their Measures</dc:title>
</cp:coreProperties>
</file>